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582-70B7-472D-A830-90CB31A8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164-73D3-4F2B-9317-E0B86839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F07-383E-4994-9A12-C5421C88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73D-3F31-456A-8D48-C368AEF4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0F9-70B5-4090-BFEC-7B0358C0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4FA9-BC93-4229-9F22-838CE255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C55D-F751-40C1-BE44-3C35363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9EA-AA43-40E8-8171-8EBE6F9B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C54-45F3-4AD3-9E67-71C82758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B96-34AD-4DC7-8EEE-186D6B63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EBF-FBD4-4669-BF26-ACDE9681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360-84C9-4040-95C5-50DB2E0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7151-E2F8-4785-9428-676BB57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D549-BA38-4E84-B19E-E3980FC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275C-C603-4D07-BAE2-53179E7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AA44-896E-40A2-A633-AAA97498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51C1-28BA-404F-9D4E-9C585A5F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581-2C66-444E-9BA8-1E03016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E37-762D-4B94-8DFC-3CB055F8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80B-79CE-4386-BF22-68E76631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32C-4DEA-4F2C-B097-24799F9C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050-946F-4876-90EA-4603838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5BE-86D2-4AD8-8DF5-D377BEC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8C3-21BE-45FA-B37C-E648490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526-DF66-4794-862A-01B4A6127C9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300-D37B-4A60-B983-F3102ABEB54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ourdes.day@polk-fl.net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cicatalog.com/" TargetMode="External"/><Relationship Id="rId2" Type="http://schemas.openxmlformats.org/officeDocument/2006/relationships/hyperlink" Target="http://www.attainmentcompany.com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aturalreaders.com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lvm.usu.edu/en/nav/vlibrary.html" TargetMode="External"/><Relationship Id="rId2" Type="http://schemas.openxmlformats.org/officeDocument/2006/relationships/hyperlink" Target="http://www.ct4me.net/math_manipulatives.htm#Manipulatives" TargetMode="External"/><Relationship Id="rId3" Type="http://schemas.openxmlformats.org/officeDocument/2006/relationships/hyperlink" Target="http://themathworksheetsite.com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donline.org/article/5896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donline.org/article/5896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donline.org/article/5896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doe.org/ese/pdf/descfcat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raphtablet.com/graphtablet.html" TargetMode="External"/><Relationship Id="rId2" Type="http://schemas.openxmlformats.org/officeDocument/2006/relationships/hyperlink" Target="http://www.onionmountaintech.com/" TargetMode="External"/><Relationship Id="rId3" Type="http://schemas.openxmlformats.org/officeDocument/2006/relationships/slide" Target="slide6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ensorysoftware.com/bigcalculator.html" TargetMode="External"/><Relationship Id="rId2" Type="http://schemas.openxmlformats.org/officeDocument/2006/relationships/hyperlink" Target="http://www.moffsoft.com/freecalc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7971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sistive Technology Tools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343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y Lourdes Day, FDLRS Technology Speciali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cal Assistive Technology Team (LAT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Lourdes.day@polk-fl.n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2120" y="575460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lorida Diagnostic and Learning Resources System (FDLRS) is funded through IDEA, Part B and State General Revenue Funds to provide support services to Florida’s Exceptional Student Education Progra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udio Rul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Crayola Total Tools Audio Ruler measures out loud! This talking tool measures in quarter inch increments up to one foot with a thin line of disappearing ink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7426"/>
                </a:solidFill>
                <a:latin typeface="Arial"/>
                <a:ea typeface="Arial"/>
              </a:rPr>
              <a:t>Cost $7.99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ruler.jpg"/>
          <p:cNvPicPr/>
          <p:nvPr/>
        </p:nvPicPr>
        <p:blipFill>
          <a:blip r:embed="rId1"/>
          <a:stretch/>
        </p:blipFill>
        <p:spPr>
          <a:xfrm>
            <a:off x="6781680" y="463860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dapted Grip Rul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 adapted ruler will help a student with poor hand or finger dexterity grasp and manipulate a ruler for those FCAT assessment items where measurement is required</a:t>
            </a:r>
            <a:r>
              <a:rPr b="0" lang="en-US" sz="3200" spc="-1" strike="noStrike">
                <a:solidFill>
                  <a:srgbClr val="080808"/>
                </a:solidFill>
                <a:latin typeface="Comic Sans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7426"/>
                </a:solidFill>
                <a:latin typeface="Arial"/>
                <a:ea typeface="Arial"/>
              </a:rPr>
              <a:t>Cost $1.0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33812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5" descr="PIC2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28800" y="5181480"/>
            <a:ext cx="584028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Tools for Mone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Money Calc or Coin-u-Later ($25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www.pcicatalog.com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oftware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Making Change or Basic Coins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www.attainmentcompany.com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2" descr="http://assistivetech.sf.k12.sd.us/images/Coinulator.jpg"/>
          <p:cNvPicPr/>
          <p:nvPr/>
        </p:nvPicPr>
        <p:blipFill>
          <a:blip r:embed="rId3"/>
          <a:stretch/>
        </p:blipFill>
        <p:spPr>
          <a:xfrm>
            <a:off x="6858000" y="4952880"/>
            <a:ext cx="19051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Text to Speech Techn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Use text to speech technology which can read word problems to students who have difficulties with decoding. This will allow students to read  independently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www.naturalreaders.com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(free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 following products allow you to scan the worksheet and then have it read to the student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ead, Write, Gold –TextHelp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urzweil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Wyn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tellitalk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eb Sites of Free Resourc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ree online virtual manipulativ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nlvm.usu.edu/en/nav/vlibrary.htm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is page links to many other manipulative sit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ct4me.net/math_manipulatives.htm#Manipulative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orksheet Generato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http://themathworksheetsite.com/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mathfactcafe.com/build/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lash Card Generat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studystack.com/category-8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Online Math Ga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120" y="2101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lementar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ttp://www.k111.k12.il.us/KING/math.htm#Beginning%20Math%20Activit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ttp://www.funbrain.com/brain/MathBrain/MathBrain.htm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K-8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aaastudy.com/add.ht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thatquiz.org/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Homework Help or Reinforce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ttp://www.webmath.com/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ttp://www.ixl.com/math/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Commercial Softwa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Math Pad (Basic Operations) &amp; Math Pad Plus (Fractions &amp; Decimal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903600" indent="-4006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udents can input problems and solve them on the computer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Virtual Pencil (Algebra and Arithmetic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903600" indent="-4006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orks well for students who are blind or have learning disabilit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Math Companion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903600" indent="-4006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reated numeric and word problem activit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Math Difficulties –Attention &amp;Memor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bout 6% of school age children have a mathematics deficit. This could be related to memory problems which leaves them unable to master the math facts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*Calculators and math charts are useful tools to accommodate this area 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ome students understand the concepts but have difficulties with attention. This students will have problems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*Sequencing steps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Start by giving students a checklist that they can use to  move logically through a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 problem and then wean the prompt by masking one step at a tim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*Paying attention to the signs of operations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Highlight or change the color of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gns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 to draw their attention to the symbol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Kate Garnett (1998)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www.ldonline.org/article/5896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Math Difficulties -Symbol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Young children may have difficulties matching picture with symbolic representation (eg.. Count the cats in this pictures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here is research evidence that students who use concrete materials actually develop more precise and more comprehensive mental representations, often show more motivation and on-task behavior, may better understand mathematical ideas, and may better apply these to life situations. (Garnett 1998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Use concrete objects that they can hold and manipula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62120" y="495288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ate Garnett (1998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ldonline.org/article/589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Math Difficulties related to Languag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ome students are hampered by the language aspects of math, resulting in confusion about terminology, difficulty following verbal explanations, and/or weak verbal skills for monitoring the steps of complex calculations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achers can help by slowing down the pace of their delivery, "chunking" of verbal information when asking questions, giving directions, presenting concepts, and offering explanations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*Have the students play teachers and explain how they arrived at the answer. Give them concrete materials to help explain their answers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Kate Garnett (1998)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www.ldonline.org/article/5896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&amp; Math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ssistive technology may help students who struggle in the area of math, to compute, sort, graph, align and solve word problem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llowable FCAT accommodation include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 use of a Talking calculator in grade 7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Grid Paper to align number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eading of word problem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bacus and Geoboard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*These MUST be listed on the IEP and used in  daily instruc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www.fldoe.org/ese/pdf/descfcat.pdf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Math Tools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rid pape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alking Calculato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alking Ruler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bacus / Number lin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rip rule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in-U-Lat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 Stamp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 Softwa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Math Companion, Math Pad, Excel…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0" name="Picture 4" descr="PIC2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914400"/>
            <a:ext cx="2716200" cy="209700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Math Gri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 grids provide more space for computations and help the student organize and align computational steps.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1480" indent="-411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ry turning a regular piece of lined paper horizontally so the lines go up and down. This give students place value columns to align their numb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24120" indent="-40968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reate your own free graph paper on the web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2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	http://www.graphtablet.com/graphtablet.html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24120" indent="-40968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7426"/>
                </a:solidFill>
                <a:latin typeface="Arial"/>
                <a:ea typeface="Arial"/>
              </a:rPr>
              <a:t>CD of a variety of Math grids available form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2"/>
              </a:rPr>
              <a:t>www.onionmountaintech.com</a:t>
            </a:r>
            <a:r>
              <a:rPr b="1" lang="en-US" sz="2400" spc="-1" strike="noStrike">
                <a:solidFill>
                  <a:srgbClr val="267426"/>
                </a:solidFill>
                <a:latin typeface="Arial"/>
                <a:ea typeface="Arial"/>
              </a:rPr>
              <a:t> Cost $10.00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4" name="Picture 4" descr="PIC900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52892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Talking Calculat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 talking calculator reads back entries and answers to aid a student who needs auditory help in calculation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Remember the student may need to be a location or use headphones so not to disturb others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7426"/>
                </a:solidFill>
                <a:latin typeface="Arial"/>
                <a:ea typeface="Arial"/>
              </a:rPr>
              <a:t>Cost $20.95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85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5" descr="PIC2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80280" y="0"/>
            <a:ext cx="2763720" cy="213372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Online Calculat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alking calculator  free to download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sensorysoftware.com/bigcalculator.html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Basic Calculator with paper display (free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moffsoft.com/freecalc.htm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9:48:03Z</dcterms:created>
  <dc:creator>lday</dc:creator>
  <dc:description/>
  <dc:language>en-US</dc:language>
  <cp:lastModifiedBy>lourdes.day</cp:lastModifiedBy>
  <dcterms:modified xsi:type="dcterms:W3CDTF">2008-06-17T16:37:47Z</dcterms:modified>
  <cp:revision>110</cp:revision>
  <dc:subject/>
  <dc:title>Assistive Technology</dc:title>
</cp:coreProperties>
</file>